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Технология производства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6064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57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39FB-D57D-4384-BE65-9D754AA2AA2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8636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235640" cy="5365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360" y="692280"/>
            <a:ext cx="72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сновные этапы производства мультимеди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CFCC-DD75-4540-98CD-46399ED1E9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101772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78200" y="1160640"/>
            <a:ext cx="4465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's Edg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р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n Communic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ет собой интегрированную инструментальную среду для разработчика стиля проекта (instructional designer], которая автоматически создает такие документы, как исходные цели, конечные группы пользователей, навигационные карты, стратегии разработ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ны и сцена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7440" y="2313000"/>
            <a:ext cx="4067280" cy="166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236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2560" y="26028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ограммы для разработки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9E9A-95CB-4FA0-AE60-575DE1452E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2360" y="1376280"/>
            <a:ext cx="4465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ьный сценари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57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2241720"/>
            <a:ext cx="7490160" cy="348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672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0160" y="2602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Разработка сцен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8339-7F37-4A23-8671-15929D22320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разец раскадровки при монтаже видеоклипа «Фабула Али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14520" y="187560"/>
            <a:ext cx="21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ска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727E-B109-4904-BF8D-E9F831AB282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визуального и аудио материала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а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ЕПрез\МультТехнЕМЕ2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27640" y="187560"/>
            <a:ext cx="602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визуального и ауди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EEB7-AC7C-46AA-9399-283973F0D6A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субтитров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МультТехнЕМЕ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4680" y="157320"/>
            <a:ext cx="35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субт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9080" y="9079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BC94-F058-4D71-9947-DB9EEF40F7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0836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ление сценария, прототипы,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мо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ализованные прототипы и модели в видеоклипах 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це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ПрототипыФаб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720" y="-28800"/>
            <a:ext cx="66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мультимедиа при разрабо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лектронного учебного пособия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1BC7-C87B-406C-96BB-1987358D36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53:15Z</dcterms:modified>
  <cp:revision>98</cp:revision>
  <dc:subject/>
  <dc:title>Lecture Template </dc:title>
</cp:coreProperties>
</file>